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192-6831-4B51-8CD0-846ECEFD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3D9-A9EE-4D80-BEC1-B41BEE13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027-DED8-4554-A831-AD660E3B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BC4-5630-4371-B9B3-0A994E9D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E411-7C63-48DB-A7AF-6ADC7B9C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3F30-2F00-4F1F-A1F9-48791314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698D-5CA6-4D20-9C7C-9867E71D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3E56-2A7D-47C7-AC99-A5D9FD96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A979-4811-45A5-A6B3-1923893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5B45-E978-49B8-9427-5766BD1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BAD4-164D-4DC3-A11D-4B7C5C75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471-C9A7-4902-8259-ECEBC22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9F1-E42E-4CA8-894D-16ABA069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BBFD-E6CB-4610-BDAA-C64C01B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340B-425E-4553-92CD-AA91DB37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8F24-3114-4D76-8BE1-B6FF4153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1DA3-6F69-4CA9-A45A-9214B693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752E-D31D-4C48-A479-C0870003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BC40-6175-49E2-979F-FF15583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BDD8-EEEA-4FD5-9FBB-DC250927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08F0-2D5E-4E8F-8F8A-3A749824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F162D-1AA2-4600-8559-4039C460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6C1-6844-40EE-8147-CAC4EC25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133D-0572-4B53-9687-25E9965A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6B789-82F1-4DBE-A1DD-86DB69A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96B5-90B2-48A6-9086-A491123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0716A-BE2F-4539-8CCA-D175CA7D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87F7-DF09-45DE-BA01-24CEBB5C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0ACA-7C8C-46F1-B5D5-7C9EABA8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B4B30-1CA0-4797-9417-BAA4C58E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A6608-B06D-4B96-A81E-DB8DF886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780C-0CF3-4BA7-A935-C8343C8D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F628-1292-4444-83A8-C4FBEB40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011-A7F5-4BB6-B7A7-88E52C19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E99D-A595-4F7F-A478-8865705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2159-9058-4C3F-9DAC-B184E6F4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8B48-D4A0-4FA1-B1A7-7E26DA7E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EA92D-3E01-4535-BC4F-5ADF42F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0E32-0DC1-44B2-A6AC-48D806A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52A1-F05B-4143-82D3-1BBD2FD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C0A3-AFBB-4D6B-AC51-FCA8E57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AE6F-6B0F-42F4-974F-115A95A1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43994-E5BE-4E63-8307-677A25F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2E1A9-A412-4EF1-9030-F465D829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EA5-BF44-4860-BB2B-9392FB19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D3DA-903E-4E3E-839C-1CE9DE2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92BFC-CC41-429B-AA22-7EDFB42C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2B4D-942E-43CE-9F52-1FA41C15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64500-73BB-4680-9CE1-CCA478A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3DD7-4BAD-4787-A078-F6CE8C6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B00DA-6151-4E23-9A07-9CB0408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356B-A994-4C69-B2AE-4024316D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C8A8-B8C3-420C-8FA1-9E24602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4572D-3277-44A6-83D4-1D95AAA9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296B-BEC2-4615-A304-A0359651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961-79A4-44F2-82A3-C97EB706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AD54B-6E13-4B81-A712-FE4DA03E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B431-AB49-4DA8-9603-8C1FB878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44A9E-C1AA-42DB-B92F-2A188812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70186-A9F9-4022-BB57-09B448CD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ECFFF-90CC-4AF2-B2D3-3F55E3E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C092-FA6A-4735-B50A-2732B05F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8A5A-D10A-4B95-B12F-EE5D7687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27C00-7FEA-481A-94F6-5A87564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04D51-6A0F-4E74-A103-50AC849B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CE37E-F237-44F0-947D-9A69B84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DBA-9E9E-47CC-B575-4519EFC0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7968-4389-4667-91D8-AC769EF4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4A9F3-A719-4196-B3A8-2063E350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643B-2F1D-4B5F-9135-5F3CA967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8D7A1-12DE-4F8C-AB6F-21593A2E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4FB8E-8D6E-4C01-A03A-FDD6038A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B3C8-CB83-4429-B184-DF74FB8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9A12-1286-4A75-A797-DA5044A9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3B4EE-86C3-4D29-B790-67D42B92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572F9-4AB6-40EC-8A08-71E0ED3E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FA0F-BD06-4927-827F-BD5984B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E0F-5840-492D-9A5F-200D831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B1C36-260F-434D-87C1-33344EA6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7908D-3B80-44B5-A869-CE38BA84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F58E-9076-4175-AE8F-2403533C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6E482-3E34-4C34-A55D-65B8F716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A1B4A-C208-408D-9790-1BB8BE2B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D5B-EAD0-47A4-9FA8-D1FF487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A9BC-2F18-4A6A-95B2-000BC3733BC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C260-9CF3-4555-A9A1-C23947BF42A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660C-CDBC-416A-8881-CD7F793632D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E504-D2E4-4E66-8869-9B53F7C5A53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592A-A0DF-445B-B666-723962EF523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0426-D7E8-4AE7-B46A-572D1E91854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F17D-EB21-4B7C-9BFB-4C66E363F3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38160" y="0"/>
            <a:ext cx="9105840" cy="4649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99">
                  <a:alpha val="6705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"/>
          <p:cNvSpPr/>
          <p:nvPr/>
        </p:nvSpPr>
        <p:spPr>
          <a:xfrm>
            <a:off x="0" y="4572000"/>
            <a:ext cx="9144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图片1"/>
          <p:cNvPicPr/>
          <p:nvPr/>
        </p:nvPicPr>
        <p:blipFill>
          <a:blip r:embed="rId1"/>
          <a:stretch/>
        </p:blipFill>
        <p:spPr>
          <a:xfrm>
            <a:off x="838080" y="1279440"/>
            <a:ext cx="7391520" cy="527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QQ截图20121228131942"/>
          <p:cNvPicPr/>
          <p:nvPr/>
        </p:nvPicPr>
        <p:blipFill>
          <a:blip r:embed="rId2"/>
          <a:stretch/>
        </p:blipFill>
        <p:spPr>
          <a:xfrm>
            <a:off x="1066680" y="533520"/>
            <a:ext cx="914400" cy="884160"/>
          </a:xfrm>
          <a:prstGeom prst="rect">
            <a:avLst/>
          </a:prstGeom>
          <a:ln w="0">
            <a:noFill/>
          </a:ln>
        </p:spPr>
      </p:pic>
      <p:sp>
        <p:nvSpPr>
          <p:cNvPr id="339" name="WordArt 6"/>
          <p:cNvSpPr txBox="1"/>
          <p:nvPr/>
        </p:nvSpPr>
        <p:spPr>
          <a:xfrm>
            <a:off x="2438280" y="609480"/>
            <a:ext cx="5639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彩云"/>
              </a:rPr>
              <a:t>英语教学课件系列</a:t>
            </a:r>
            <a:endParaRPr b="1" i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彩云"/>
              <a:ea typeface="华文彩云"/>
            </a:endParaRPr>
          </a:p>
        </p:txBody>
      </p:sp>
      <p:sp>
        <p:nvSpPr>
          <p:cNvPr id="340" name="WordArt 7"/>
          <p:cNvSpPr txBox="1"/>
          <p:nvPr/>
        </p:nvSpPr>
        <p:spPr>
          <a:xfrm rot="20562000">
            <a:off x="3352680" y="4267080"/>
            <a:ext cx="6098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Go</a:t>
            </a:r>
            <a:endParaRPr b="1" i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1" name="WordArt 8"/>
          <p:cNvSpPr txBox="1"/>
          <p:nvPr/>
        </p:nvSpPr>
        <p:spPr>
          <a:xfrm rot="21002400">
            <a:off x="4191120" y="409536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for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9"/>
          <p:cNvSpPr txBox="1"/>
          <p:nvPr/>
        </p:nvSpPr>
        <p:spPr>
          <a:xfrm rot="20790600">
            <a:off x="4876560" y="3962520"/>
            <a:ext cx="5331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Arial"/>
              </a:rPr>
              <a:t>it!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3" name="WordArt 10" descr=""/>
          <p:cNvPicPr/>
          <p:nvPr/>
        </p:nvPicPr>
        <p:blipFill>
          <a:blip r:embed="rId3"/>
          <a:stretch/>
        </p:blipFill>
        <p:spPr>
          <a:xfrm>
            <a:off x="7004160" y="1822320"/>
            <a:ext cx="1689120" cy="470160"/>
          </a:xfrm>
          <a:prstGeom prst="rect">
            <a:avLst/>
          </a:prstGeom>
          <a:ln w="0">
            <a:noFill/>
          </a:ln>
        </p:spPr>
      </p:pic>
      <p:sp>
        <p:nvSpPr>
          <p:cNvPr id="344" name="Line 11"/>
          <p:cNvSpPr/>
          <p:nvPr/>
        </p:nvSpPr>
        <p:spPr>
          <a:xfrm>
            <a:off x="914400" y="1523880"/>
            <a:ext cx="73152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val 6"/>
          <p:cNvSpPr/>
          <p:nvPr/>
        </p:nvSpPr>
        <p:spPr>
          <a:xfrm>
            <a:off x="2286000" y="380880"/>
            <a:ext cx="41148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As soon as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533520" y="2667960"/>
            <a:ext cx="815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英语动词的时间大致可分为三段：过去时、现在时、将来时。假设有两件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就会出现三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 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现在时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as soon as B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现在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 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每一个大的时间段内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时态要统一。比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过去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肯定在过去时内。其它也是如此。至于在每个大时间段内，再根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件事的具体情况，具体对待。比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过去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同时发生，还是先后发生，不是即将发生，再分别选用完成时、进行时、将来时。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533520" y="762120"/>
            <a:ext cx="830556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过去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arranged the flowers in the vase as soon as I came back ho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回到家里，我就把花在花瓶里插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过去进行时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过去完成时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虚拟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 was shaking with fright as if he had seen a gh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吓得直哆嗦，就好像看见了鬼一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将来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可用一般现在时表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y will post me the tickets/post the tickets to me as soon as they receive my cheq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们收到我的支票后就立刻把票寄给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04920" y="609480"/>
            <a:ext cx="8534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s soon 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接的时间状语从句中，指未发生的动作。规律是：主句一般将来时，从句用一般现在时代替一般将来时。  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will tell him the news as soon as he comes b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指紧接着发生的两个短动作，主从句都用一般过去时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 took out his English books as soon as he sat down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就这两种情况 ，熟记就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宾语从句中，当主句为与过去时的时候，从句必须用与主句相对应的时态，所以为了与主句动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呼应，时间状语从句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ill look u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该对应为过去将来时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ould look u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in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应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u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84362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 .... that....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如此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...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致于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..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(that 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引导的结果状语从句</a:t>
            </a: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ff"/>
                </a:solidFill>
                <a:latin typeface="Times New Roman"/>
              </a:rPr>
              <a:t>so</a:t>
            </a: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的后面跟副词或形容词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例句：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ff"/>
                </a:solidFill>
                <a:latin typeface="Times New Roman"/>
              </a:rPr>
              <a:t>老师说的太快了，以至于我听不清楚他的话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teacher speaks so fast that I can't catch th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ord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2057400" y="609480"/>
            <a:ext cx="41148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so…that…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380880" y="457200"/>
            <a:ext cx="837252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［比较］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…that…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）引导结果状语从句，意为“因此，所以”，主句和从句间常用逗号分开，一般不与情态动词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thing more was heard of hi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o that people thought that he was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未再听到他的消息，以致人们认为他已死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）引导目的状语从句，意为“为了，以便”，通常从句中用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may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might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can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could</a:t>
            </a:r>
            <a:r>
              <a:rPr b="1" lang="zh-CN" sz="2800" spc="-1" strike="noStrike">
                <a:solidFill>
                  <a:srgbClr val="0080ff"/>
                </a:solidFill>
                <a:latin typeface="Times New Roman"/>
                <a:ea typeface="宋体"/>
              </a:rPr>
              <a:t>等情态动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e left early so that we could catch the first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很早出发，以便能赶上第一班汽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533520" y="1981080"/>
            <a:ext cx="8305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___________ her father died, the stepsist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de her do all the ch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She was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us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 she had no time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a dress for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The mice knew that ___________ th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lped her make a dress, she would no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le to go to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___________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nce saw her, he fell i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ove with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25520" y="609480"/>
            <a:ext cx="87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a. Fill in the blanks wit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, as soon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or so ...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067040" y="190512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515680" y="289548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            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4801680" y="38862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991080" y="533412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s soon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228600" y="114300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The prince knew that _________ the girl’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oot could fit the shoe, it was not the right gi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 The new couple were ____ happy ______ th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uldn’t stop smiling when they got marr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878000" y="129528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4496760" y="27432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               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4"/>
          <p:cNvSpPr/>
          <p:nvPr/>
        </p:nvSpPr>
        <p:spPr>
          <a:xfrm>
            <a:off x="380880" y="1905120"/>
            <a:ext cx="845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onkey King is the main character from the famous Chinese stor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ourney to the W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He is wonderful because he______ (help) weak people. The Monkey King _____(have) a magic stick. He_____ (use) it to fight bad people. He can________ (make) the stick big or small. He can sometimes make the stick so small that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59720" y="533520"/>
            <a:ext cx="75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b. Fill in the blanks with the corr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forms of the verb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5335560" y="32004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l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058840" y="441972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448640" y="502920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5030280" y="380988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228600" y="1143000"/>
            <a:ext cx="861048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n put it in his ear. As soon as he______ (s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ad people, he thinks of ways to fight them. He can _______(turn) himself into different animals and objects. But unless he can hide his tail, he cannot make himself a human. Children all over the worl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 (love) the Monkey K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325920" y="129528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1067760" y="26668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210040" y="46483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384120" y="685800"/>
            <a:ext cx="825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4c. Tell your partner about your favor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1926360" y="2209680"/>
            <a:ext cx="584388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My favorite story is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  <a:ea typeface="宋体"/>
              </a:rPr>
              <a:t>It is interesting becaus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1" descr="u=3493327505,357089727&amp;fm=0&amp;gp=0"/>
          <p:cNvPicPr/>
          <p:nvPr/>
        </p:nvPicPr>
        <p:blipFill>
          <a:blip r:embed="rId1"/>
          <a:stretch/>
        </p:blipFill>
        <p:spPr>
          <a:xfrm>
            <a:off x="380880" y="3657600"/>
            <a:ext cx="3600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914400" y="1219320"/>
            <a:ext cx="7416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Unit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宋体"/>
              </a:rPr>
              <a:t>An old man tried to move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6"/>
          <p:cNvSpPr txBox="1"/>
          <p:nvPr/>
        </p:nvSpPr>
        <p:spPr>
          <a:xfrm>
            <a:off x="1676520" y="41148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ction A Grammar Foc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u=1094910371,795610753&amp;gp=2"/>
          <p:cNvPicPr/>
          <p:nvPr/>
        </p:nvPicPr>
        <p:blipFill>
          <a:blip r:embed="rId1"/>
          <a:stretch/>
        </p:blipFill>
        <p:spPr>
          <a:xfrm>
            <a:off x="6256440" y="4724280"/>
            <a:ext cx="2887560" cy="17956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228600" y="1066680"/>
            <a:ext cx="87138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他努力学习，以便取得好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e works hard _______ he can get good res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老师写得很仔细，是为了让我们看得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The teacher wrote carefully ________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ould see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他太伤心了，以致说不出一个字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e is _____________he can’t say a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妹妹身体太弱了，不能再走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y sister is ____________ she can’t wal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r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124080" y="17524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5106960" y="281952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1676520" y="4572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sad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2362320" y="57913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o weak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116720" y="423720"/>
            <a:ext cx="3389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…that…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填空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04920" y="609480"/>
            <a:ext cx="88390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 按要求转换下列句型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 Jim did his homework last night.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否定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Jim ______ ____  his homework last night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 Did she study Japanese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作肯定回答）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, she _______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 They’d like tomatoes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改为一般疑问句）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 they _______ tomatoes 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 They watched TV last night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改为一般疑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 they watch TV last night?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1218960" y="1981080"/>
            <a:ext cx="20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n't 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531360" y="32004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Yes              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455400" y="449568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ould        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610560" y="5791320"/>
            <a:ext cx="9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380880" y="457200"/>
            <a:ext cx="838224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 用所给词的适当形式填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 Listen! She _____________(sing) ABC song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 They usually __________(go) shopping on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turday but they______ ______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ot 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t yester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 We ________ (talk) about the problem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ast Satur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 I_______ (be) not here yesterday but 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 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 here, ________ you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 He 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e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is room last Sun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200760" y="990720"/>
            <a:ext cx="17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s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277080" y="16765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4038120" y="2209680"/>
            <a:ext cx="19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n’t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1752840" y="32767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al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1296360" y="449568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1220040" y="50292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3429000" y="4952880"/>
            <a:ext cx="1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we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1524240" y="556272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lea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2410560" y="981000"/>
            <a:ext cx="299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  <a:ea typeface="宋体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831240" y="2743200"/>
            <a:ext cx="710388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se unless, as soon as and so…tha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ke as many sentences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WordArt 4"/>
          <p:cNvSpPr txBox="1"/>
          <p:nvPr/>
        </p:nvSpPr>
        <p:spPr>
          <a:xfrm>
            <a:off x="1676520" y="2438280"/>
            <a:ext cx="62481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9900"/>
                </a:solidFill>
                <a:latin typeface="华文行楷"/>
              </a:rPr>
              <a:t>Thank You!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99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228600" y="2133720"/>
          <a:ext cx="8763120" cy="321300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366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ow does the story begin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at happened nex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y was Yu Gong trying to move the mountains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Who is the Monkey King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hat can't the Monkey King do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nce upon a time, there was a very old man 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  <p:sp>
        <p:nvSpPr>
          <p:cNvPr id="348" name="Oval 10"/>
          <p:cNvSpPr/>
          <p:nvPr/>
        </p:nvSpPr>
        <p:spPr>
          <a:xfrm>
            <a:off x="2362320" y="609480"/>
            <a:ext cx="411480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Grammar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04920" y="990720"/>
          <a:ext cx="8610480" cy="46749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68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s soon as the man finished talking, Yu Gong said that his family could continue to move the mountains after he died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ecause they were so big that it took a long time to walk to the other side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e is the main character in Journey to the Wes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He cannot turn himself into a person unless he can hide his tail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3f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80880" y="1143000"/>
            <a:ext cx="8062920" cy="520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3e87"/>
                </a:solidFill>
                <a:latin typeface="Times New Roman"/>
                <a:ea typeface="宋体"/>
              </a:rPr>
              <a:t>Conditional clauses with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</a:t>
            </a:r>
            <a:r>
              <a:rPr b="1" lang="en-US" sz="2800" spc="-1" strike="noStrike">
                <a:solidFill>
                  <a:srgbClr val="073e87"/>
                </a:solidFill>
                <a:latin typeface="Times New Roman"/>
                <a:ea typeface="宋体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0" y="2081160"/>
            <a:ext cx="84247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含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复合句由两个分句组成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为连词，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导条件状语从句，另一句为主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250920" y="2946240"/>
            <a:ext cx="820728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如果谈论的是某一个动作发生后势必会产生某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结果，那么主从句都用一般现在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95280" y="3954600"/>
            <a:ext cx="8353440" cy="1933200"/>
          </a:xfrm>
          <a:prstGeom prst="rect">
            <a:avLst/>
          </a:prstGeom>
          <a:solidFill>
            <a:srgbClr val="a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e.g. If you boil water, it becomes s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drop a glass, it brea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heat metal, it me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run, you sw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95280" y="59706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put wood into water, it __________ (floa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5334120" y="59436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fl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2209680" y="152280"/>
            <a:ext cx="41148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Unless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宋体"/>
              </a:rPr>
              <a:t>的用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68360" y="765000"/>
            <a:ext cx="83516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如果谈论的是‘如果’某一个动作或事情发生后，很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将会产生某种结果，那么在复句中主句的动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一般将来时，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从句仍然是一般现在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685800" y="2438280"/>
            <a:ext cx="7848720" cy="2874960"/>
          </a:xfrm>
          <a:prstGeom prst="rect">
            <a:avLst/>
          </a:prstGeom>
          <a:solidFill>
            <a:srgbClr val="ecf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e.g. If it rains, we</a:t>
            </a:r>
            <a:r>
              <a:rPr b="1" lang="en-US" sz="2800" spc="-1" strike="noStrike" u="sng">
                <a:solidFill>
                  <a:srgbClr val="4584d3"/>
                </a:solidFill>
                <a:uFillTx/>
                <a:latin typeface="Times New Roman"/>
                <a:ea typeface="宋体"/>
              </a:rPr>
              <a:t> won’t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take a h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He</a:t>
            </a:r>
            <a:r>
              <a:rPr b="1" lang="en-US" sz="2800" spc="-1" strike="noStrike" u="sng">
                <a:solidFill>
                  <a:srgbClr val="4584d3"/>
                </a:solidFill>
                <a:uFillTx/>
                <a:latin typeface="Times New Roman"/>
                <a:ea typeface="宋体"/>
              </a:rPr>
              <a:t> will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get up school on time i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clock goes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 he arrives in Hong Kong, he </a:t>
            </a:r>
            <a:r>
              <a:rPr b="1" lang="en-US" sz="2800" spc="-1" strike="noStrike" u="sng">
                <a:solidFill>
                  <a:srgbClr val="4584d3"/>
                </a:solidFill>
                <a:uFillTx/>
                <a:latin typeface="Times New Roman"/>
                <a:ea typeface="宋体"/>
              </a:rPr>
              <a:t>will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call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80880" y="54864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you don’t start early, you ____________the beginning of the film (mi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4952880" y="54100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will 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7"/>
          <p:cNvSpPr/>
          <p:nvPr/>
        </p:nvSpPr>
        <p:spPr>
          <a:xfrm>
            <a:off x="457200" y="609480"/>
            <a:ext cx="82803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●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若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条件句放句首，从句后面要加逗号，和主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隔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●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unless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</a:t>
            </a:r>
            <a:r>
              <a:rPr b="1" i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用法相似，相当于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if…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380880" y="2209680"/>
            <a:ext cx="83534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e.g. You will fail the exa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if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you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on’t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prepare for it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You will fai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exam unless you prepare fo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If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oesn’t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look up the wor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dictionary, he won’t know its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He won’t know the word’s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unless he looks it up in the diction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6836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Times New Roman"/>
                <a:ea typeface="宋体"/>
              </a:rPr>
              <a:t>She will miss the train unless she _______ up 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5791320" y="5638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57200" y="609480"/>
            <a:ext cx="83059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nles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一般情况下，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unless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相当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if…not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，可以互换。用一般现在时代替将来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 won't let you in unless you show me your pass = I won't let you in if you don't show me your pass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你不出示通行证，我就不让你进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如果主句描述的是情感或情绪活动方面的内容，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if…not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结构不能换成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unless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'll be quite glad if she doesn't come this ev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她今晚如果不来我很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Unless you take more care, you’ll have an accident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不多加小心的话，你会出事故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485280" y="838080"/>
            <a:ext cx="8190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My baby sister never cries unless she is hungr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那刚出生的妹妹除非饿了，否则她是从来不哭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 Don’t promise anything unless you’re 100 percent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ure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要作任何的许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非你有百分百的把握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 Unless bad weather stops me, I jog every 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非坏天气作梗，每天我都慢跑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Don't come in unless you will be invi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Don't come in unless you're invi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Unless he will come, we won't be able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Unless he comes, we won't be able to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ll</cp:lastModifiedBy>
  <dcterms:modified xsi:type="dcterms:W3CDTF">2016-03-25T02:58:13Z</dcterms:modified>
  <cp:revision>20</cp:revision>
  <dc:subject/>
  <dc:title>PowerPoint 演示文稿</dc:title>
</cp:coreProperties>
</file>